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EE3-D10D-48C4-A4EC-78EA30BF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D826-CD4A-46E2-9A44-865B1D9A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0ADF-9BA6-496E-A850-012CD006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602-4B3C-4E0E-8F98-EB20EA52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9F17-D107-4D2E-B5AD-010C3283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2A4B-C0F1-4448-81EE-3A5CC055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20BC-A17F-48D9-9D41-738F1B7D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462E-D1F7-47ED-BC3C-9F0F38B7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BF16-C929-4F36-9156-F0B10E18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2967-7137-4865-A47D-7338FB3A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13B9-F3E7-46E2-A8A3-3AA6596A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B8CC-4B24-4439-AA72-C46A669C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AFF2-8899-4D80-A190-B4DFC6F5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8049-C6D8-4E3C-BE74-599717A3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394B-6AA2-43D7-846E-33E3B829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2084-7349-4C4E-B744-9B8B978D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6B7F-354B-4065-BDCE-82FAF361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C0A-AB53-4067-BA29-08CC22CA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BD9-CFEC-4A50-873F-BE80AE8D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0C9D-D381-459F-BE34-042BE633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EF8-E28A-4E62-8261-70D0C7D4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1F50-3056-4069-8BE0-72EEE0B5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7527-EC75-4BC1-8756-0D1CFB0A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FD2-3565-4FCB-8766-6F604842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4E44-70E6-40A3-88AD-A687DD3CB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05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2051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2052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4D55-3B99-4B68-BF34-01FD7550C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areerbuilder.com/" TargetMode="External"/><Relationship Id="rId2" Type="http://schemas.openxmlformats.org/officeDocument/2006/relationships/hyperlink" Target="http://www.timesjobs.com/" TargetMode="External"/><Relationship Id="rId3" Type="http://schemas.openxmlformats.org/officeDocument/2006/relationships/hyperlink" Target="http://www.computerjobs/" TargetMode="External"/><Relationship Id="rId4" Type="http://schemas.openxmlformats.org/officeDocument/2006/relationships/hyperlink" Target="http://www.totaljobs.com/" TargetMode="External"/><Relationship Id="rId5" Type="http://schemas.openxmlformats.org/officeDocument/2006/relationships/hyperlink" Target="http://www.bankjobs.com/" TargetMode="Externa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352440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Object 0"/>
          <p:cNvGraphicFramePr/>
          <p:nvPr/>
        </p:nvGraphicFramePr>
        <p:xfrm>
          <a:off x="3124080" y="1066680"/>
          <a:ext cx="3429000" cy="17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066680"/>
                    <a:ext cx="3429000" cy="17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7"/>
          <p:cNvSpPr/>
          <p:nvPr/>
        </p:nvSpPr>
        <p:spPr>
          <a:xfrm>
            <a:off x="1676520" y="350532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view Techniqu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320840"/>
          </a:xfrm>
          <a:prstGeom prst="rect">
            <a:avLst/>
          </a:prstGeom>
          <a:noFill/>
          <a:ln w="93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 Unicode MS"/>
              </a:rPr>
              <a:t>Expected qualities of the candidate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ffective Verbal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f it is English language without M.T Infl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atural delivery, fl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nounce sentence clea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peak little more loudly or lower your voice to draw attention of the experts if there is an important point or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  <a:ea typeface="Arial Unicode MS"/>
              </a:rPr>
              <a:t>Rejected by the committ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gue and irrelevant answers to the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y fidgety: little eye contact; nervous mannerism, such as playing with hair, nail biting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ck of since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tter superficial remarks to impress the interviewer – project wor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854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  <a:ea typeface="Arial Unicode MS"/>
              </a:rPr>
              <a:t>Do’s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ake a practice run to the location where you are having the int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presented with a job application, do fill it out neatly, completely and accurat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bring extra resumes to the int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greet the interviewer &amp; do shake hands firm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wait until you are offered a chair before sit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o’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make good eye contact with your interviewer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show enthusiasm in the position and the comp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make sure that your good points come across to the interviewer in a factual sincere man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stress your achieve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ON’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void controversial top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ever lie. Answer questions truthfully, frankly and succin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say anything negative about former colleagues, supervisors, or employ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answer questions with a simple ‘yes’ or ‘no’. Explain whenever possible. Describe those things about yourself that showcase your talents, skills and determination. Give 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on'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inquire about salary, vacations, bonuses, retirement, or other benefits until after you’ve received an of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bring up or discuss personal issues or family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say your past history, hence it is available in the C.V. it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fter Intervie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k them for calling you for the interview through a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te that you look forward to hear from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86200" y="380880"/>
            <a:ext cx="5029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TERVIEW QUESTION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 me about your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you leave your previous job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ort of job you are looking fo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ppeals to you about this job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you think you’d be good at this job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your strength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your weakness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you accept this job if it were offered to yo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you know about this compan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take this job, how long would you st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you think you may be too old/young/inexperienc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384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ll me about yourself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often asked question in inter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your academic rec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qualification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k about things you have done and jobs you have held that relate to the position you are interviewing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: 3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written answer for this question and rehea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do you think you do be good at this job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is to say general and say something like: A job where I love to work, like the people, can contribute more to the comp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ob which is challenging, a job which gives me opportunities to prove knowledge and skill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952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for int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int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ation for inter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during and after inter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ips for inter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’s and Don’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iew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t Job s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appeals to you about this job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chieve through heights and also to learn, work hard and quench my thirst of knowledge in the related field, which I am going to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be unique in decision making skills in the fu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are your strengths ?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 of your subject 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ability to prioritiz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problem –solving skill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ability to work under pressur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ability to focus on project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professional expertis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leadership skills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positive attitud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are  your weakness ?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you have to tell your weakness As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 Always I will be committed to the assigned work, which I expect from my co-workers, this leads to affects the interpersonal relationship but the outcome of the work will be satisfied.This eg suits to the team lea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ould accept this job, if were offered to you 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certainly I will accept this job do the best to the company or organiz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, you have give reas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do you know about this company 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to go to the website and look for the details like company, products, services, year of starting the company, their annual reports,agen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workers are working in that company, volume of the business future plan of business and other specific details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trips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f you take this job,how long would you stay ?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et high standards for  yourself and meet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outcomes are a success and tell them about you stay in that compa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on’t you think you may be too old/ young/inexperienced 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t that you have no experience. However explain your academic streng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portant Job Si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5486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00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www.naukri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www.winentrance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www.jobsahead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www.digitalbhoomi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www.cybermediadice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ahoma"/>
                <a:hlinkClick r:id="rId1"/>
              </a:rPr>
              <a:t>www.careerbuilder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hotjobs.yahoo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www.jobs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ahoma"/>
                <a:hlinkClick r:id="rId2"/>
              </a:rPr>
              <a:t>www.timesjobs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ahoma"/>
                <a:hlinkClick r:id="rId3"/>
              </a:rPr>
              <a:t>www.computerjo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ahoma"/>
                <a:hlinkClick r:id="rId4"/>
              </a:rPr>
              <a:t>www.totaljobs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www.sciencejobs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www.career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www.computerwork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www.topjobs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ahoma"/>
                <a:hlinkClick r:id="rId5"/>
              </a:rPr>
              <a:t>www.bankjobs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1752480" y="2438280"/>
            <a:ext cx="6400800" cy="2362320"/>
          </a:xfrm>
          <a:prstGeom prst="rect">
            <a:avLst/>
          </a:prstGeom>
        </p:spPr>
        <p:txBody>
          <a:bodyPr wrap="none" fromWordArt="1" lIns="91800" rIns="91800" anchor="ctr" anchorCtr="1">
            <a:prstTxWarp prst="textArchUp">
              <a:avLst>
                <a:gd name="adj" fmla="val 1080001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ank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149" name="Object 5"/>
          <p:cNvGraphicFramePr/>
          <p:nvPr/>
        </p:nvGraphicFramePr>
        <p:xfrm>
          <a:off x="3505320" y="3657600"/>
          <a:ext cx="274320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657600"/>
                    <a:ext cx="27432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  <a:ea typeface="Times New Roman"/>
              </a:rPr>
              <a:t>Interview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eting of minimum two expert- candid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nged to examine the suitability of the candid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ed for subject knowledge, skills and desired behavior in a very limited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  <a:ea typeface="Arial Unicode MS"/>
              </a:rPr>
              <a:t>Types of Intervie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nel Interview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hree or more experts sit across table from the candid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ace-to-Face Interview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ne interviewer one candid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formal in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ess distance between interviewer and candid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ess stressful and relaxed environment compared to panel int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ior Intervie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your CV/ application and skills dema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compan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the company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ual repor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iness news papers,magaz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contact the employ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now the Compa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238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production /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ual sales,profit,divid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 of op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product/service laun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 Unicode MS"/>
              </a:rPr>
              <a:t>During an interview Employers Evaluat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lf Confid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– you should be confident while appearing for inter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erpersonal skil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– fluency in English, listen attentively and answer to the questions asked by the intervie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e hon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– While answering in the interview, even if you don’t know the answer for certain question, be honest in answer to the interview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000" spc="-1" strike="noStrike">
                <a:solidFill>
                  <a:srgbClr val="ffcc66"/>
                </a:solidFill>
                <a:latin typeface="Arial"/>
                <a:ea typeface="Arial Unicode MS"/>
              </a:rPr>
              <a:t>Non- verbal or Body</a:t>
            </a:r>
            <a:br>
              <a:rPr sz="4000"/>
            </a:br>
            <a:r>
              <a:rPr b="1" i="1" lang="en-US" sz="4000" spc="-1" strike="noStrike">
                <a:solidFill>
                  <a:srgbClr val="ffcc66"/>
                </a:solidFill>
                <a:latin typeface="Arial"/>
                <a:ea typeface="Arial Unicode MS"/>
              </a:rPr>
              <a:t>Language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osture: sit erect without learning on the desk or slouching in the chair, but don’t be stiff and te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ways make eye contact when you speak, but avoid continuous star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use too many hand movements and frequent change of facial expressions not in relation to words you have expr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ress outloo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ess formally and well groom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never get a second chance to make a good im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r something that make you feel comfor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imple accessories like simple jewelry, watches, ties, e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ts, perfumes and after shaves lotion should be avoided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6:50:52Z</dcterms:created>
  <dc:creator/>
  <dc:description/>
  <dc:language>en-US</dc:language>
  <cp:lastModifiedBy>Bright</cp:lastModifiedBy>
  <dcterms:modified xsi:type="dcterms:W3CDTF">2013-08-22T13:16:30Z</dcterms:modified>
  <cp:revision>50</cp:revision>
  <dc:subject/>
  <dc:title>Presentation on Interview</dc:title>
</cp:coreProperties>
</file>